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0886-A9AA-4F0A-8F51-524FC3BB9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AFB7-2B1E-4956-8221-288DE7DB6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4518-3355-4B04-A5DB-EE36889F9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D6CD-A351-4CBA-88DE-2417FA9DD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7D4E-5B38-4F19-8656-84641CF0C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0026-D9B9-432B-9D3C-AA9125261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3D43-4E40-47F1-9CE8-14513D12D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9157-927A-4397-8203-22989627F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AEB2-37B3-4AFC-B555-ACAB0C03B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E31B-222F-452E-9299-5E126DFF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3B15-DDCA-43C6-8EE6-6552F13D7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6E1C-2513-40E1-BB06-F2D617B2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603A8-3A35-4BDE-A00D-E106C1F8DD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-12240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0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7" descr=""/>
          <p:cNvPicPr/>
          <p:nvPr/>
        </p:nvPicPr>
        <p:blipFill>
          <a:blip r:embed="rId3"/>
          <a:stretch/>
        </p:blipFill>
        <p:spPr>
          <a:xfrm>
            <a:off x="250920" y="1509840"/>
            <a:ext cx="860112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-12240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250920" y="6095880"/>
            <a:ext cx="85690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حفظ الله له عن التحريف إلى يوم القيام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3"/>
          <a:stretch/>
        </p:blipFill>
        <p:spPr>
          <a:xfrm>
            <a:off x="3276720" y="836640"/>
            <a:ext cx="5651280" cy="546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2" descr=""/>
          <p:cNvPicPr/>
          <p:nvPr/>
        </p:nvPicPr>
        <p:blipFill>
          <a:blip r:embed="rId4"/>
          <a:stretch/>
        </p:blipFill>
        <p:spPr>
          <a:xfrm>
            <a:off x="250920" y="2116080"/>
            <a:ext cx="8691480" cy="1384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3" descr=""/>
          <p:cNvPicPr/>
          <p:nvPr/>
        </p:nvPicPr>
        <p:blipFill>
          <a:blip r:embed="rId5"/>
          <a:stretch/>
        </p:blipFill>
        <p:spPr>
          <a:xfrm>
            <a:off x="1679400" y="5487840"/>
            <a:ext cx="7263000" cy="53352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324000" y="3500280"/>
            <a:ext cx="856908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من عادة المكذبين الكفر بما أتى به الرس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ن الله تعالى يزيد اهل الكفر والضلال ضلالا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علم الله السابق بما سوف يفعله المكذبي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عنوان 1"/>
          <p:cNvSpPr/>
          <p:nvPr/>
        </p:nvSpPr>
        <p:spPr>
          <a:xfrm>
            <a:off x="324000" y="141768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إيمان بهم وأنهم رسل من عند الله سبحانه وتعال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15840"/>
            <a:ext cx="913284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72"/>
          <a:stretch/>
        </p:blipFill>
        <p:spPr>
          <a:xfrm>
            <a:off x="250920" y="1700280"/>
            <a:ext cx="862164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24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539640" y="1773360"/>
            <a:ext cx="8353440" cy="2793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3"/>
          <a:stretch/>
        </p:blipFill>
        <p:spPr>
          <a:xfrm>
            <a:off x="3154320" y="4567320"/>
            <a:ext cx="312408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-12240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2"/>
          <a:stretch/>
        </p:blipFill>
        <p:spPr>
          <a:xfrm>
            <a:off x="250920" y="1015920"/>
            <a:ext cx="864216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2" descr=""/>
          <p:cNvPicPr/>
          <p:nvPr/>
        </p:nvPicPr>
        <p:blipFill>
          <a:blip r:embed="rId1"/>
          <a:stretch/>
        </p:blipFill>
        <p:spPr>
          <a:xfrm>
            <a:off x="250920" y="1671480"/>
            <a:ext cx="8642160" cy="4853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"/>
          <p:cNvPicPr/>
          <p:nvPr/>
        </p:nvPicPr>
        <p:blipFill>
          <a:blip r:embed="rId2"/>
          <a:stretch/>
        </p:blipFill>
        <p:spPr>
          <a:xfrm>
            <a:off x="0" y="836640"/>
            <a:ext cx="9140760" cy="662040"/>
          </a:xfrm>
          <a:prstGeom prst="rect">
            <a:avLst/>
          </a:prstGeom>
          <a:ln w="0">
            <a:noFill/>
          </a:ln>
        </p:spPr>
      </p:pic>
      <p:sp>
        <p:nvSpPr>
          <p:cNvPr id="51" name="عنوان 1"/>
          <p:cNvSpPr/>
          <p:nvPr/>
        </p:nvSpPr>
        <p:spPr>
          <a:xfrm>
            <a:off x="2843280" y="907920"/>
            <a:ext cx="45162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صفات القرآن الكري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عنوان 1"/>
          <p:cNvSpPr/>
          <p:nvPr/>
        </p:nvSpPr>
        <p:spPr>
          <a:xfrm>
            <a:off x="395280" y="447372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قرآ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395280" y="5049720"/>
            <a:ext cx="4824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 التبديل والتحريف والزيادة والنقصا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395280" y="5732640"/>
            <a:ext cx="482436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يخيل إلينا ذلك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3"/>
          <a:stretch/>
        </p:blipFill>
        <p:spPr>
          <a:xfrm>
            <a:off x="-122400" y="-85680"/>
            <a:ext cx="93758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179280" y="1574640"/>
            <a:ext cx="866628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صفات القرآن الكريم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كلام الله الحق وهو منزل غير مخلوق 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محفوظ بحفظ الله إلى يوم القيامة فلن يحرّف كما حرفت التوراة والإنجي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98440" y="258300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عادة المكذبي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استهزاء بالرسل والكفر بما أتوا ب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7040" y="3086280"/>
            <a:ext cx="866628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تعالى يزيد أهل الكفر والضلال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ضلالاً فيعمي بصائرهم عن رؤية الحق لحكمة بالغة هو يعلم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66760" y="387972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ن سنة الله في المكذبين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هلاك والإذلال والتدمي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-122400" y="-85680"/>
            <a:ext cx="93758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7" descr=""/>
          <p:cNvPicPr/>
          <p:nvPr/>
        </p:nvPicPr>
        <p:blipFill>
          <a:blip r:embed="rId1"/>
          <a:stretch/>
        </p:blipFill>
        <p:spPr>
          <a:xfrm>
            <a:off x="179280" y="932040"/>
            <a:ext cx="8785440" cy="1180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>
            <a:off x="-12240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5" name="عنوان 1"/>
          <p:cNvSpPr/>
          <p:nvPr/>
        </p:nvSpPr>
        <p:spPr>
          <a:xfrm>
            <a:off x="247680" y="2276640"/>
            <a:ext cx="8640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منزلة من عند ال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نزلت مصدقة للرسل عليهم الصلاة والسلا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فيها هدى للمؤمني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8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8613720" cy="1295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-12240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9" name="عنوان 1"/>
          <p:cNvSpPr/>
          <p:nvPr/>
        </p:nvSpPr>
        <p:spPr>
          <a:xfrm>
            <a:off x="179280" y="2349360"/>
            <a:ext cx="8640720" cy="38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إخلا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حفظ في الصغر كالنقش على الحجر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ختيار وقت الحف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ختيار مكان الحف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5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قراءة المجودة والمنغمة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6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اقتصار على طبعة واحدة من المصحف ولا يغيره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7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صحيح القراءة مقدّم على الحف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8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عملية الربط مقدم على الحف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9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ـتــكــرار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10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حفظ اليومي المنتظم خير من الحفظ المتقط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31T07:43:48Z</dcterms:modified>
  <cp:revision>1842</cp:revision>
  <dc:subject/>
  <dc:title>عرض تقديمي في PowerPoint</dc:title>
</cp:coreProperties>
</file>